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74C-57AE-46D1-A3D1-EFF255CE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D1F-3B02-4961-A53B-4255B640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561-9605-4F53-BCAE-316A1E04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FAE-3F77-480E-A340-FA585DBD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85B2-46F5-45E1-A6A9-4C3C3D19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23BA-4933-4F36-A343-974CB31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869-1B75-4614-8642-F6EABF81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76D9-DE90-4649-A06A-636B32D6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C59-D70A-40A5-9F0C-F71886E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8952-2C7D-4724-84DC-3D642EF0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014-BC12-41A4-AF24-35A7825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F09-AA1F-4473-992F-6249E10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3237-BE79-4453-A254-F626B10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C04B-00AA-412B-A6B0-4FE1334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B1BF-DE13-4ED6-8215-8D3927D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FB32-4355-45DB-A8C5-15BF5260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F96-D01F-46BB-9CD7-FAD502FC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6BD-93AF-429E-81E6-82EE2D6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90E-2BEB-4E5B-889A-7C23E98B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8BF-2CCD-4EE8-B33A-FE982B6B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5D9-6574-48E4-B1F5-F1FDF32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DA2-6A28-47A8-976F-C38AA5A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161-808E-46D4-AA9F-4D97D19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284-E938-44FC-A73F-BD1FCA0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E03-6097-479A-B6D0-0C91D9CA3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A554-ECBD-49FC-B345-F833BB0C2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y Code of Ethics Pro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your code of ethics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Must be 5 sentences long. (May be long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 logo that corresponds with your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n 8.5 x 11 paper that illustrates your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Friday – be prepared to present it to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2:09:50Z</dcterms:created>
  <dc:creator>Lorie Jones</dc:creator>
  <dc:description/>
  <dc:language>en-US</dc:language>
  <cp:lastModifiedBy>ANITAW</cp:lastModifiedBy>
  <dcterms:modified xsi:type="dcterms:W3CDTF">2013-01-28T13:09:45Z</dcterms:modified>
  <cp:revision>2</cp:revision>
  <dc:subject/>
  <dc:title>My Code of Ethics Project</dc:title>
</cp:coreProperties>
</file>